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9600" y="685440"/>
            <a:ext cx="44388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FF13-CCAC-477A-A03E-EFAD854B3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2959-642B-4718-B956-07348B400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DA55-7AC6-4224-BB63-E87757EE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1EA-6149-4F55-B479-1702549D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3F89-DCBB-4A3D-A7BD-C2059D1E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81CF-1680-4D18-9C0C-D8A50D51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EE7F-E316-48F6-9DB2-1C41DA11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15F3-4A74-49D6-8846-A5DB875F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0C1-43D2-4FBE-92FA-FECAC478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EB18-7A9D-4026-AED2-AC2E9F0A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B1B2-9ABB-4ED7-B48F-2BF48F7F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1257-354B-410B-8DCF-7914945C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5F3-C74C-4A77-8A30-DBC9FD41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5FA-493C-4528-A161-B7F24BB5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7A39-AE37-41EE-9C31-B910FA35F93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228600" y="228600"/>
            <a:ext cx="3235320" cy="3238560"/>
            <a:chOff x="228600" y="228600"/>
            <a:chExt cx="3235320" cy="3238560"/>
          </a:xfrm>
        </p:grpSpPr>
        <p:sp>
          <p:nvSpPr>
            <p:cNvPr id="49" name="Text Box 5"/>
            <p:cNvSpPr/>
            <p:nvPr/>
          </p:nvSpPr>
          <p:spPr>
            <a:xfrm>
              <a:off x="1673280" y="228600"/>
              <a:ext cx="908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6"/>
            <p:cNvSpPr/>
            <p:nvPr/>
          </p:nvSpPr>
          <p:spPr>
            <a:xfrm>
              <a:off x="1870200" y="228600"/>
              <a:ext cx="0" cy="3232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7"/>
            <p:cNvSpPr/>
            <p:nvPr/>
          </p:nvSpPr>
          <p:spPr>
            <a:xfrm>
              <a:off x="228600" y="1846440"/>
              <a:ext cx="3235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8"/>
            <p:cNvSpPr/>
            <p:nvPr/>
          </p:nvSpPr>
          <p:spPr>
            <a:xfrm>
              <a:off x="228600" y="228600"/>
              <a:ext cx="3235320" cy="323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228600" y="228600"/>
              <a:ext cx="3235320" cy="80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228600" y="2656080"/>
              <a:ext cx="3235320" cy="80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1"/>
            <p:cNvSpPr/>
            <p:nvPr/>
          </p:nvSpPr>
          <p:spPr>
            <a:xfrm>
              <a:off x="228600" y="2254320"/>
              <a:ext cx="3235320" cy="40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2"/>
            <p:cNvSpPr/>
            <p:nvPr/>
          </p:nvSpPr>
          <p:spPr>
            <a:xfrm>
              <a:off x="228600" y="1033560"/>
              <a:ext cx="3235320" cy="40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3"/>
            <p:cNvSpPr/>
            <p:nvPr/>
          </p:nvSpPr>
          <p:spPr>
            <a:xfrm>
              <a:off x="228600" y="228600"/>
              <a:ext cx="3235320" cy="40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Group 14"/>
            <p:cNvGrpSpPr/>
            <p:nvPr/>
          </p:nvGrpSpPr>
          <p:grpSpPr>
            <a:xfrm>
              <a:off x="228600" y="428760"/>
              <a:ext cx="3235320" cy="3031920"/>
              <a:chOff x="228600" y="428760"/>
              <a:chExt cx="3235320" cy="3031920"/>
            </a:xfrm>
          </p:grpSpPr>
          <p:sp>
            <p:nvSpPr>
              <p:cNvPr id="59" name="Rectangle 15"/>
              <p:cNvSpPr/>
              <p:nvPr/>
            </p:nvSpPr>
            <p:spPr>
              <a:xfrm>
                <a:off x="228600" y="3059280"/>
                <a:ext cx="3235320" cy="40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6"/>
              <p:cNvSpPr/>
              <p:nvPr/>
            </p:nvSpPr>
            <p:spPr>
              <a:xfrm>
                <a:off x="228600" y="143532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7"/>
              <p:cNvSpPr/>
              <p:nvPr/>
            </p:nvSpPr>
            <p:spPr>
              <a:xfrm>
                <a:off x="228600" y="123372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8"/>
              <p:cNvSpPr/>
              <p:nvPr/>
            </p:nvSpPr>
            <p:spPr>
              <a:xfrm>
                <a:off x="228600" y="205272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9"/>
              <p:cNvSpPr/>
              <p:nvPr/>
            </p:nvSpPr>
            <p:spPr>
              <a:xfrm>
                <a:off x="228600" y="265140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20"/>
              <p:cNvSpPr/>
              <p:nvPr/>
            </p:nvSpPr>
            <p:spPr>
              <a:xfrm>
                <a:off x="228600" y="225432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21"/>
              <p:cNvSpPr/>
              <p:nvPr/>
            </p:nvSpPr>
            <p:spPr>
              <a:xfrm>
                <a:off x="228600" y="325908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22"/>
              <p:cNvSpPr/>
              <p:nvPr/>
            </p:nvSpPr>
            <p:spPr>
              <a:xfrm>
                <a:off x="228600" y="83196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23"/>
              <p:cNvSpPr/>
              <p:nvPr/>
            </p:nvSpPr>
            <p:spPr>
              <a:xfrm>
                <a:off x="228600" y="42876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24"/>
            <p:cNvGrpSpPr/>
            <p:nvPr/>
          </p:nvGrpSpPr>
          <p:grpSpPr>
            <a:xfrm>
              <a:off x="235080" y="231840"/>
              <a:ext cx="3031920" cy="3235320"/>
              <a:chOff x="235080" y="231840"/>
              <a:chExt cx="3031920" cy="3235320"/>
            </a:xfrm>
          </p:grpSpPr>
          <p:sp>
            <p:nvSpPr>
              <p:cNvPr id="69" name="Rectangle 25"/>
              <p:cNvSpPr/>
              <p:nvPr/>
            </p:nvSpPr>
            <p:spPr>
              <a:xfrm rot="5400000">
                <a:off x="-1181880" y="1648800"/>
                <a:ext cx="3235320" cy="40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26"/>
              <p:cNvSpPr/>
              <p:nvPr/>
            </p:nvSpPr>
            <p:spPr>
              <a:xfrm rot="5400000">
                <a:off x="541800" y="174852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27"/>
              <p:cNvSpPr/>
              <p:nvPr/>
            </p:nvSpPr>
            <p:spPr>
              <a:xfrm rot="5400000">
                <a:off x="743400" y="174852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28"/>
              <p:cNvSpPr/>
              <p:nvPr/>
            </p:nvSpPr>
            <p:spPr>
              <a:xfrm rot="5400000">
                <a:off x="-75240" y="174852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29"/>
              <p:cNvSpPr/>
              <p:nvPr/>
            </p:nvSpPr>
            <p:spPr>
              <a:xfrm rot="5400000">
                <a:off x="-673920" y="174852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30"/>
              <p:cNvSpPr/>
              <p:nvPr/>
            </p:nvSpPr>
            <p:spPr>
              <a:xfrm rot="5400000">
                <a:off x="-276840" y="174852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31"/>
              <p:cNvSpPr/>
              <p:nvPr/>
            </p:nvSpPr>
            <p:spPr>
              <a:xfrm rot="5400000">
                <a:off x="-1281600" y="174852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32"/>
              <p:cNvSpPr/>
              <p:nvPr/>
            </p:nvSpPr>
            <p:spPr>
              <a:xfrm rot="5400000">
                <a:off x="1145160" y="174852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33"/>
              <p:cNvSpPr/>
              <p:nvPr/>
            </p:nvSpPr>
            <p:spPr>
              <a:xfrm rot="5400000">
                <a:off x="1548360" y="1748520"/>
                <a:ext cx="323532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" name="Text Box 34"/>
          <p:cNvSpPr/>
          <p:nvPr/>
        </p:nvSpPr>
        <p:spPr>
          <a:xfrm>
            <a:off x="152280" y="3505320"/>
            <a:ext cx="51055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t I: Finding the Midpoint of a Segment in the Coordinate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and label Point S(8,5), Point T(4,3) and Point R(8,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Segments TS, TR and S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and find the coordinates of the midpoint U of Segment TR and of the midpoint V of Segment S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(    ,     ), V(    ,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vertical segment from U that ends when it intersects Segment TS.  Label the point of intersection 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horizontal segment from V that ends when it intersects Segment 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otice about the point where the horizontal segment intersects Segment 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conjecture about point M on the Segment 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distance formula to verify your conj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5"/>
          <p:cNvSpPr/>
          <p:nvPr/>
        </p:nvSpPr>
        <p:spPr>
          <a:xfrm>
            <a:off x="4648320" y="152280"/>
            <a:ext cx="541008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t II: Deriving the Midpoint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nsider any two points S(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and T(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coordinates for Point R(           ,          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rite the coordinates for Point U(              ,             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int V(          ,         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write the coordinates of Point M(                       ,                     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nown as the midpoint formula.  Verify that the formula works by using it to find the midpoint of Segment ST in Part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21:33:52Z</dcterms:created>
  <dc:creator> </dc:creator>
  <dc:description/>
  <dc:language>en-US</dc:language>
  <cp:lastModifiedBy>Administratr</cp:lastModifiedBy>
  <dcterms:modified xsi:type="dcterms:W3CDTF">2010-08-06T00:56:28Z</dcterms:modified>
  <cp:revision>5</cp:revision>
  <dc:subject/>
  <dc:title>Slide 1</dc:title>
</cp:coreProperties>
</file>